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4E0-6A81-45CF-A355-BA6C58D6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412-AB70-49D7-8CFD-0F52ED14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87F-36F4-4DCE-846E-1CF34A10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1A6-DCB4-43B9-9F1C-21311C1D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E0C-839A-493C-A439-CA7254CC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D73-F4CC-47DD-9623-25604AEB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67F-5803-4705-A8A5-09C61CFE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CF0-9920-429B-A025-90597753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CFB-57AB-4A19-85C2-AA636116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FBD-2E7C-44B7-A813-05AEBA9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3F5-4EEE-4546-B767-362352B5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3E8-0006-4A88-89E9-CA486D8B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957F-2AE7-456A-B0E7-5992914A0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gse.org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bguenther@berwicksd.or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. Governor’s Schools of Excel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er residential program to challenge &amp; enrich the artistic or academically tal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0, 11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interest, achievement, relevant activities, 5 weeks away from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www.pgs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– avail. Oct 1; deadlines v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or’s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251424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ricultural Sci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lobal Entrepreneurshi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7960" y="2514600"/>
            <a:ext cx="3809880" cy="2819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formation, Society &amp; Technolo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national Stud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8380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 Schools – conducted in different regions of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85800" y="55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e – discontinued in summer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s and the opportunity for college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, AP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 (6)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bhsgifted.wikipag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Mentoring (M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724280" y="1905120"/>
            <a:ext cx="3962520" cy="56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OT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fted Worksh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 Governor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hools of Excell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fills grad. project requirement for 2009, 2010 and 2011 only.  Freshman have new requi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ir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reas of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Museum Bloomsburg (I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icial Law Mentor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ary/Middle/High Schoo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/Short Story Collection (I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l Men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 - 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in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bguenther</cp:lastModifiedBy>
  <dcterms:modified xsi:type="dcterms:W3CDTF">2009-04-13T14:09:59Z</dcterms:modified>
  <cp:revision>19</cp:revision>
  <dc:subject/>
  <dc:title>Berwick Area High School</dc:title>
</cp:coreProperties>
</file>